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239E2-6D71-4611-BBC3-C8CC938BE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8553B-2042-46FF-A46F-529355371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85C5-484A-4838-BD26-5E2D06660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0335E-6847-441E-987D-4BCBC66813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63639-F7D3-449C-ACAC-AC422CC035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A244D-D918-4B12-A99C-4135D49E6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5CC55-67A9-487C-857D-323413C4E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F788F-4522-4A43-8E83-C6D95A063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1F226-C5B2-4590-80DD-354C98326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88E5C-C75E-4291-80D0-8A201400B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D069C-A89C-414C-83EB-AB0894C75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69536-2016-4175-907B-068A4A1B2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B5D6-C391-45BF-845F-509BDF79CD93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PLAN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5132160"/>
            <a:ext cx="63691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es For Making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http://www.rxmdmarketingsolutions.com/wp-content/uploads/2010/02/Profits.jpg"/>
          <p:cNvPicPr/>
          <p:nvPr/>
        </p:nvPicPr>
        <p:blipFill>
          <a:blip r:embed="rId1"/>
          <a:stretch/>
        </p:blipFill>
        <p:spPr>
          <a:xfrm>
            <a:off x="2484360" y="1628640"/>
            <a:ext cx="4159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9EA2-1501-4FA4-8389-B1FCD7FEBB40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0920" y="2418840"/>
            <a:ext cx="511344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ke 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lly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a customer’s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gain Basement” price for basic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ium price for outstand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DD9E-F709-44E2-8EF8-E665FC9B1439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ieve In Your Product Or 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197080" y="2707920"/>
            <a:ext cx="4896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 with a pass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profits require passion and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enthusi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race customers with outstand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2ECB-22A3-4693-AA00-2CB2750B156F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The Produ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47280" y="1981080"/>
            <a:ext cx="597564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lly test and evalu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s like being as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the product su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patient recovered from the illn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the legal advice underst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2B2C-B47F-46C7-9AF1-BD4A61606608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 Proposals – Not Quo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24000" y="2053800"/>
            <a:ext cx="4896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Proposal” – sets out a full Ac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some “padding” into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it look ni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it look profession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 the nex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up any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98FA-94A2-4037-A1AD-B7EFD3421467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908000" y="2852640"/>
            <a:ext cx="5400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mall business operators do not follow up qu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n Ac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differentiate your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impress the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 Proposals – Not Quotes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7506-51CA-49E1-BBE9-E201BC87BD94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A Customer/Prospect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90200" y="2566800"/>
            <a:ext cx="576108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s, Coupons, Inv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communicate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targeted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ly improves the profitability of an 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it is being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8461-FCBB-4E19-8E86-60998CE2764D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nd The Effect Of The “Pareto Principle” In Your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1440" y="1886040"/>
            <a:ext cx="73422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0% of your effort will produce 80% of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/80 ru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every group of 20% in your business that produces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ut those customers. Give them fantastic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Pareto Principle” should be used to identify what really works in your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BFD5-D8F1-4DE5-931B-1E4C2BCEFE84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ourage People To Come Back More Of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02920" y="2526840"/>
            <a:ext cx="6334200" cy="35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 more product to existing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your customers to visit more 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as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them about your other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st persons for you to start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CBB4-E799-4CCC-AD91-CA4A6F6DEEC7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’ve Got To Tell Your Custom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09440" y="2746080"/>
            <a:ext cx="5326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assume that customers know all of your produc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contact at least six  times every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lly commun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53FC-81C9-4D8D-A26D-ADA566DE5087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rget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340000" y="2925720"/>
            <a:ext cx="4464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customer base and people who look like present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2E28-1A28-4D0E-9007-2DFC5629A676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 For Excellence In Your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3080" y="2268360"/>
            <a:ext cx="7199280" cy="38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understanding of th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, recruiting, motivating, training and retaining excellent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pt identification and elimination of trouble sp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Assurance System –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ing able to deliver an excellent service every time the business has any contact with a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A8BB-C916-4E07-86BC-572764E29B90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ral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1440" y="2050560"/>
            <a:ext cx="73422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for generating refer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one – leaving the future of your business to fa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able small businesses are very proactive in the generation of refer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customers to refer their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it easy for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copies of broch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4DEF-FA31-43AD-B1AB-DC13548BD9B1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ral System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47640" y="2563920"/>
            <a:ext cx="60487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” letter and a small g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t Vou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n’t get so close that you are blind to the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base is one of the key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later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9F3D-1127-40B5-B075-9D48DE15C7E3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athy With Your Custom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29920" y="3090960"/>
            <a:ext cx="6310440" cy="19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outstanding empathy with your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and understand thei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mon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0D9B-C810-4D81-A271-D6C06096DF95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 The Profit Leverage For Your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36280" y="2523960"/>
            <a:ext cx="5715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“Pareto Princip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produc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to your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, motivate and reward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F0A6-6037-403E-8D58-637920993B0C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 The Profit Leverage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77440" y="2527200"/>
            <a:ext cx="626292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usiness must be able to produce excellent service 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asion that contact is made with a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ff – are appropriately trained to deliver that excelle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79BF-6337-4581-9FA7-7BAC9FD7E95D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Value Of A Lifetime” Custom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18920" y="2517480"/>
            <a:ext cx="597708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per trans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ed by the number of times per annum that you anticipate the customer will visi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ed by the number of years you anticipate that customer will service your busi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6D03-CFC9-4F58-B50F-7E8D9C6E5C89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k Like A Custom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93440" y="3141360"/>
            <a:ext cx="58309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hinking like your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visual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knowing your target market with a pa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4341-AE21-473C-B51F-6CAAC9C6B315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ularly Review Pr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654200" y="2997360"/>
            <a:ext cx="58309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ven if inflation is only going up 3% or 4% per an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n prices should also be going up by the monthly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C17C-0694-43A2-B83F-BF6C5880428A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ucate Staf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92360" y="1989000"/>
            <a:ext cx="56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/Service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a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sale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ting of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 ma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 to face 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ess and personal app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B921-60A1-46B7-A121-04A84DD616CE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-Sell/Cross-Se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340000" y="3068280"/>
            <a:ext cx="44625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what other section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the additional sale items with the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7A9E-6B8A-407F-ADDF-252B218AFEA6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62160" y="1844640"/>
            <a:ext cx="6694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ing that the business has very satisfied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s’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from the customer’s point of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lk in the Customer’s Sho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reviewing the financial state 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alised financial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 For Excellence In Your Business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86F6-AA14-4897-B46D-85FADC604A0A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How We Do It Her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47640" y="3214440"/>
            <a:ext cx="60724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your system to new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-on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sell more than basic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BC13-E1F0-4079-88D3-B99F9F1920D8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ey Back Guarante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6000" y="2997000"/>
            <a:ext cx="68896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ing one of the greatest obsta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 excell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ear in issuing money back guaran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belief in your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C4CD-3A71-4425-9B2A-4F0226046946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 “Event”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26920" y="2122560"/>
            <a:ext cx="3946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out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of financial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 Valentine’s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zac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race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1C77-DC59-49E8-8A36-C23AF158116A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 “Event” Marketing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42720" y="2268360"/>
            <a:ext cx="4876920" cy="36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sporting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e your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rate your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uni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eve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287F-9ABD-4238-950F-663CA5D59584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rthday Greet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74920" y="1989000"/>
            <a:ext cx="6192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thday Card and a Gift Vou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em their Gift Vou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sales throughout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s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them to come to your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s these type of sales throughout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5743-82B0-410A-94F6-880082B741E7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6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 Clubs/Semina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65080" y="2827080"/>
            <a:ext cx="5614920" cy="26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onal events limited to members of the cl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ed select group of people are made to feel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199B-4F36-4DF0-87F5-23966B0CDBCE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You Answering The Needs Of Your Custome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28720" y="3806640"/>
            <a:ext cx="39589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able to be answered posi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6138-140F-4E76-925D-EF62797F59DB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itor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640" y="2349360"/>
            <a:ext cx="5688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know what your competitors are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your competitors might be over the next three to five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paper cu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ti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ch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30ED-56FB-4F77-85EE-9D0FC9268209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itor Files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7704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dd thing that “fell of the back off a truc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ss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your competitors’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y have a good idea – copy it and try to improve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lert to what your competitors are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F28C-A193-410B-A1A7-30D4930A0FE3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spects Conversion To Custom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6000" y="2854440"/>
            <a:ext cx="69105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people who enter your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ales made each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age of sales to pro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cious effort to improve the conversion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5FD8-2AB7-440D-A028-58C910E75398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47640" y="212256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to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Aged Debtors’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Aged Creditors’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Analysis of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Work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flow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O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 For Excellence In Your Business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3007-5469-4DDB-9EAF-83D0E67537D1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imoni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42840" y="3192120"/>
            <a:ext cx="7229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way of communic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customers to give testimon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DA46-4DD1-4941-833D-BB8420014724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6000" y="2491920"/>
            <a:ext cx="69120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refer one another’s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further names to your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ly host seminars, product evenings, fashion pa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ly produce brochures/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723C-A086-4B3E-8D8B-3B6E7C2E4F6E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Net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6520" y="3409560"/>
            <a:ext cx="561348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or more small businesses come together to improve their muscle in the market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9A70-ED06-44E6-8378-58DB84601207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Factors In Adding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98680" y="2544840"/>
            <a:ext cx="616896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ing “feeling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 more than people ex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customers to give you testimon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word of mouth refer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graphs of satisfied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BE19-CE18-442E-A0B6-3894E5FB6C1E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 A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050920" y="2923920"/>
            <a:ext cx="50292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ifferent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writte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own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review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BC43-9295-47EE-B8E9-9D01D504FC79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The Things That 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052360" y="3573000"/>
            <a:ext cx="5040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mething is working – make sure that it is incorporated into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B75B-F7E6-48D3-BD2E-03631BC04243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6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 Outs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26920" y="3645000"/>
            <a:ext cx="38098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the blin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9DCF-345C-496C-99C2-23A7655DD941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7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ity Is Importa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842840" y="3509640"/>
            <a:ext cx="5537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stomers want to do business with people they can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4E8D-B1A3-463E-A310-4C7C53BC51BE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8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k About Using A “Consultant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836360" y="2079360"/>
            <a:ext cx="561492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business strategies and profi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have to be a professional consul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ht be experienced business person, accountant,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eople can sometimes see things differently from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6DED-9388-482B-BDD2-931434ECB8BA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980720" y="2997360"/>
            <a:ext cx="525492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del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ntrate on the “business of business”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5FE3-7AA4-46DE-A27B-AF3DC994B0F2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460600" y="3179520"/>
            <a:ext cx="41990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se the strengths of the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monthly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 For Excellence In Your Business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7DD9-2732-47E3-AF35-7986046EF39C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itability Improv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00520" y="2971440"/>
            <a:ext cx="3327120" cy="21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 higher 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675B-220D-4ED8-9E7D-D1F56722EB98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 Li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25440" y="3211560"/>
            <a:ext cx="4894200" cy="19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s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degree of excellence in your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9D59-AE80-4A38-B0E0-65CB800CF0A1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ablish Appropriate Meas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36360" y="1773360"/>
            <a:ext cx="554364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l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sale per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customer’s number of visits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000 customers per an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ed the business on 3 occasions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sale was $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C4F1-F97F-4D2C-A153-DA031B4B3318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ablish Appropriate Measures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17080" y="2276280"/>
            <a:ext cx="69836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nual turnover would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,000 x 3 x $7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4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improv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customers increased by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visits increased from 3 to 4 per an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sale – because of add-on items – increased by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DFDA-927C-4562-8A1F-6AC1F8BD5CDF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ablish Appropriate Measures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45800" y="2371680"/>
            <a:ext cx="71262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custo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vis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s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0.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,200 x 4 x $80.5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708,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crease in turnover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$288,4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8.7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0370-3880-4563-8E44-2366CD9E5BFC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ablish Appropriate Measures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77440" y="2520720"/>
            <a:ext cx="6262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gross profit percentage in your business was 50% - this would b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oss profit increase of $144,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 some extra sales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ur to turnover was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wages would cost (20% x $288,400) - $57,6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7EF2-D623-4143-A8F9-0F1B2DB3BD22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ablish Appropriate Measures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836360" y="343800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rovement in bottom line profitability would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$86,5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1ADD-8DDC-46D1-B6FE-0C5E580C70D1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Measurement Data To Improve Profit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02920" y="2050920"/>
            <a:ext cx="638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the number of customers handled by your business each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visits to your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sales convers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/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3122-77A1-4FBD-A549-E983523E2B86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161880" y="2357280"/>
            <a:ext cx="2778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and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Measurement Data To Improve Profitability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2303-3213-4795-BD11-94818B753BDB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lude Measurement Targets In Your Business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specific targets for the following ye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ustomers last year – plus percentage increas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ale last year – plus targeted percentage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transactions with customers last year – plus targeted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develop the system in your business to ensure that you can achieve that sales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4A87-7455-448B-9FDD-27139A74FD7F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Different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25440" y="2666520"/>
            <a:ext cx="4894200" cy="29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make your business look different from that of your compet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e to be differ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 your compet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e your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A180-1D44-4F4C-9E97-E581A296D5F8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"/>
          <p:cNvPicPr/>
          <p:nvPr/>
        </p:nvPicPr>
        <p:blipFill>
          <a:blip r:embed="rId1"/>
          <a:stretch/>
        </p:blipFill>
        <p:spPr>
          <a:xfrm>
            <a:off x="1258920" y="1351080"/>
            <a:ext cx="6553080" cy="4863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sheet For Determining Sales Targe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FE79-936F-4B30-9867-D192DB63086B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Fir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2160" y="3212640"/>
            <a:ext cx="66945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be first – rather than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the “pace sett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first – will also differentiate your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5363-E358-4AE3-8E3E-AB78B50605DF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Tremendous Business Opportun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76440" y="2812680"/>
            <a:ext cx="6019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ntrate on custome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th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Marketing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are correctly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-active in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495F-1936-4725-98A3-ECA307FABC44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115640" y="2583000"/>
            <a:ext cx="698508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stomers are not going to come to your business unless they know about you and know about the type of services or products that you hav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stream of customers needed for 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 the growth of your customer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Tremendous Business Opportunities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6:31:20Z</dcterms:created>
  <dc:creator>Peter Towers</dc:creator>
  <dc:description/>
  <dc:language>en-US</dc:language>
  <cp:lastModifiedBy>Jenny</cp:lastModifiedBy>
  <dcterms:modified xsi:type="dcterms:W3CDTF">2015-09-07T06:32:45Z</dcterms:modified>
  <cp:revision>18</cp:revision>
  <dc:subject/>
  <dc:title>Strategies For Making Profits</dc:title>
</cp:coreProperties>
</file>