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D103-5C74-4E8D-A38C-AB7BBAF00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CB38-0FB2-42E5-87EF-34A14BCC4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2B32-4C22-4BBF-B83A-A4AF6185A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4647-AF47-476E-A78B-6128E4506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CFB1-4345-4070-AE79-B890DBC860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C661-2A46-4476-904D-079535982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E65F-EAF8-419E-B031-811CDC63F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7769-6721-49D9-959C-06CB08BC0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FCF6-5073-4086-86EE-59AFD77AF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92C1-6888-41F3-833D-5DDF764DD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3414-4F09-4F92-82E0-B90B7E101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9A58-4926-4B93-A63D-E87D32062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5A0E-A916-465C-9F02-8D6627111F6E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989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Your Business – Sm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1968480" y="1557360"/>
            <a:ext cx="52070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EAD0-2968-4187-8FC9-C4FF7448625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 You Get “Quality Time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2360" y="2641320"/>
            <a:ext cx="571176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o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an hour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plan the future of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your business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your business g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you going to get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F572-A567-4E63-96AE-925F032B4E0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mall Business Fail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35280" y="3708360"/>
            <a:ext cx="547344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mphasises the absolute need for planning for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4AC7-4DD5-44B0-9A1F-5EAF8E390CE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 For Business Fail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9640" y="2125800"/>
            <a:ext cx="72709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to 75% of the businesses that commence this year will be out of business within the next three to fiv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 for business fail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bookkeep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ounting and financi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marke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customer’s em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C048-D187-45D6-8D82-B113A973FC9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000" y="1980720"/>
            <a:ext cx="669636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to a ship’s cap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his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out of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kes problems he has to divert from hi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lly rechecks where h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the voyage can be completed at a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siness planning is exact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095B-E49E-43C8-88C7-ABE9C0DDBE82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siness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11280" y="1916280"/>
            <a:ext cx="43214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e are now - review of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5BBF-5DD8-40A1-B284-FDA4B8CFF4D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siness Plan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71400" y="2050920"/>
            <a:ext cx="602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your business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going to get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objectively prepared plans, budgets and cashflow foreca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95CD-A5F8-46D1-A3F0-9F82DFA0810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siness Plan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6978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atters to take into consid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f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43F6-56A3-4D90-8A8E-B207FE34648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siness Plan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17360" y="2514600"/>
            <a:ext cx="531828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atters to take into consideration (cont’d…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your business structure still appropri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44A2-C751-4FB4-B8BF-367724785054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oint A Facilit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3139920"/>
            <a:ext cx="5832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mprove chances of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or could be an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an external consul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AA85-472C-4F16-B6FD-9FACFB3C17F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or’s Du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41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the busines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past financial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lan 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 at Business Planning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Tank”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s key information, ideas or commi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s and Cashflow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1057-3FDF-41BB-B16B-0EE9DBDB62A8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Business Owners – Are They Differe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0400" y="3708360"/>
            <a:ext cx="489924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 in a number of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C4F2-6E17-4667-8DD5-F2AC7F27D22B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or’s Duti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19280" y="1915920"/>
            <a:ext cx="5905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business plan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busines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9C0F-7509-4D92-AB72-50691C068D91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or’s Duti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8960" y="2485800"/>
            <a:ext cx="738504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business plan includes (cont’d…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Expend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and Cashflow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etings/Directors’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1574-EE96-4D97-826F-25165BF1615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 Of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47280" y="3429000"/>
            <a:ext cx="5977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lan Question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financial performance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”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8938-E420-459F-911D-DD78AC398889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siness Plan is not something that should be prepared and then filed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living documen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d implementation” of the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59BC-2A01-494E-ACDA-385B24BACE22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28720" y="3573000"/>
            <a:ext cx="3887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o 3 page précis of the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122C-F302-48D5-B51F-BF95EF16FC2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ies Of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05240" y="3097080"/>
            <a:ext cx="231912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F02C-8EEE-46BB-94F6-035FD499487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To Long Term Surviv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ommitment and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s concentrated thinking, discussion and debate is the key to the formulation of a workable achievable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ctual performance is monitored, should significantly assist in the long term survival of the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A760-7AE1-45A3-84D3-4DC7D5134FF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1476360" y="1504800"/>
            <a:ext cx="5543640" cy="5054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ing The Business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4672-5D9C-4692-B211-ABE64E06D81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And Monitoring The Business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2102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DD9C-9581-4D78-9538-E135A4A6E03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ner’s Invol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34920" y="3556080"/>
            <a:ext cx="554508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is frequently seen as an extension of the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B08E-53DA-49C6-85B1-FA787DB2DDBA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sts Not Specia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8920" y="3022560"/>
            <a:ext cx="6624720" cy="20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be generalists, not spe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them unaware of many of the specialist skill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600C-AEBC-4ACA-90B8-6BDC57AB16E7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Concern For “Specialist”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79280" y="2909520"/>
            <a:ext cx="5181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 to get “on with the job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ith “specialist”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DEC6-0F82-48BA-8811-3933FEC4B113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Concern For “Specialist” Activities (cont'd..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0000" y="2933280"/>
            <a:ext cx="669636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lecting these important “specialist” activities can do more to erode the business’ base than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9107-E052-4441-9D2F-DE4C7EBFB805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ong Priorities O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0360" y="2997000"/>
            <a:ext cx="6624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dom have the time to invest in key business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ntrate on work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business rather th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nning is a must to ensure business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4EEB-CC30-4F3C-9F92-0DA729B5B666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 “On The Business” Rather Than “In The Busines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640" y="3691080"/>
            <a:ext cx="612000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the time to devote to planning and steering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aper 009-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C526-B0CB-44EB-A3AF-701BC9EB630C}" type="slidenum">
              <a:rPr b="0" lang="en-A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22680" y="2937960"/>
            <a:ext cx="372096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ing Actu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31:20Z</dcterms:created>
  <dc:creator>Peter Towers</dc:creator>
  <dc:description/>
  <dc:language>en-US</dc:language>
  <cp:lastModifiedBy>Jenny</cp:lastModifiedBy>
  <dcterms:modified xsi:type="dcterms:W3CDTF">2015-09-07T04:19:44Z</dcterms:modified>
  <cp:revision>276</cp:revision>
  <dc:subject/>
  <dc:title>Planning Your Business  Small Businesses</dc:title>
</cp:coreProperties>
</file>