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BF41-F111-4171-899D-BEE46A5C7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4462-C877-4491-AC03-D398458DB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3513-F6BD-48E9-BEF4-3ADD28406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1BD5-CA7D-4080-A2EE-F1E6E976F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26F1-5148-4F73-8210-CB2EDDF1B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7BBF-AC81-453D-90E6-DE133751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6541-F563-415A-BAC9-45CAC50B2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E888-99B3-4B39-8CCE-B3A60B72F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26E6-D6A5-466B-95F1-A916F719E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808D-87D4-4525-99A9-AB6A4AA08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ADBE-7290-4113-8336-B8AEAC050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EE32-56C5-470D-B996-F287A4B01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83E-C8E4-4D78-A680-8E0BA19A393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878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2962440" y="2392200"/>
            <a:ext cx="3122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190-D7C9-4AAB-A129-E337486BBE4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045800" y="2050920"/>
            <a:ext cx="712620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business that keeps growing to become more prof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time left for other activities away from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will have concentrated on managing the business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is the business tactics of winn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s Assist In Running A Busines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BF8-FDDA-42C5-A295-2AAC0893845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usiness Fail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6629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market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bookkeep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ccounting interpretat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managemen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man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8A3-C19C-453C-88C8-0ABA949C144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usiness Failur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640" y="2050920"/>
            <a:ext cx="564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financia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f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knowing th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 with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8774-1389-4063-9D8F-DC42D2A87CD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usiness Failur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9080" y="2133360"/>
            <a:ext cx="611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8800" indent="-38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ther words, not managing the business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problems could be overcome if the business proprietor had sat down and attempted to systematically plan the business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CAB-742B-4E7B-974D-7A47501D2CC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usiness Failur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098520"/>
            <a:ext cx="777384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eensland Small Business Corporation claimed that by the preparation of a business plan, a new venture can simply increase the odds of succeeding in small busin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one chance out of three, to four out of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1016-EB46-4705-A159-3B5C58402F5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To Think Of All Aspects Of The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help you to think of all aspects of the business’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realistic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the busin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operating 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ing adequate productivity of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/service planning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marketing and promotion of th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42D-D07E-4E5F-A794-8E226AF6CC9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help you to think of all aspects of the business operation’s (cont’d…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the business’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ing prompt and accur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staff involvement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sure you have anticipated potenti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s will assist in dealing with your banker and other finan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To Think Of All Aspects Of The Busines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0CA-036C-4114-AABB-64A0127087A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For Su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3357360"/>
            <a:ext cx="7488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going to be a winner in business, you will need to plan for tha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188-C855-4516-867E-3186637ACC0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Input Requi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00480" y="1916280"/>
            <a:ext cx="433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require expert input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B5F-9894-422B-9F86-D35CE779044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Input Required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9800" y="3556080"/>
            <a:ext cx="748692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planning process is enhanced by the appointment of a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47D-1B0C-4A14-A26E-88EE3089905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The Business Of The Business Is Vital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2880" y="3565440"/>
            <a:ext cx="525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and understanding the differentiation of your business is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711-84ED-48B1-A5B3-273246061A6F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 For The Preparation Of A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1800" y="2882880"/>
            <a:ext cx="662292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ating tool to help you compare current performance 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you to think through your current business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aid in securing financial support from bankers and finan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E41-F84D-4705-9E22-B8304A091B9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Businesses With Business Plans Succe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7800" y="3700080"/>
            <a:ext cx="61898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who have written business plans succeed in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472-DA70-4FEC-ABEF-2DC0C0AEBF6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He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3440" y="2617560"/>
            <a:ext cx="6478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what your strengths and weakness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point the areas in which you need to improve you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other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you to consider and analyse threats to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56ED-CC80-48BD-AB6C-C5BBDE2ECE3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Helps (cont'd…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6160" y="2793960"/>
            <a:ext cx="640548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what your strengths and weaknesses are (cont’d…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you to analyse your current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you to set weekly and monthly targets to which you can then compare your act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A122-D389-4A60-9295-3802DD4F460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te Planning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90560" y="3330360"/>
            <a:ext cx="58341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ttempt to prepare a business plan in the hurly burly of day-to-day busines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D0A6-26F1-439D-A6C1-DF60B06CBFD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What Is In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36360" y="3406320"/>
            <a:ext cx="554364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pl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 be of no use to you unless you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9E6-0754-4E2C-8063-730D88C6D4E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Plan To Monito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7080" y="2133360"/>
            <a:ext cx="7560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re is no doubt that you can significantly improve your chances of business success by the preparation of a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n follow through with the monitoring of your actual performance against your pre-set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e it as a reference point to compare where your business is, against what you planned i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2036-B6D7-4855-A9E8-24DD6D74BEF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f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25440" y="3712680"/>
            <a:ext cx="489420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t least an annu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C3C-50CC-4B47-BA27-1375A5AF810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! Don’t Make “Seat Of The Pants” Dec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38160" y="3479400"/>
            <a:ext cx="547056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people who adopt “seat of the pants” type decision-making, ultimately f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2C9C-E7D2-487F-A116-C8B90A22943D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ers Want Business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2997360"/>
            <a:ext cx="65530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plan is an essential component of the package that you should be submitting to financiers and bankers for financial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D41-CDAA-4CE4-AF0F-D289A5A0A16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s Require You To 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3080" y="2994120"/>
            <a:ext cx="7199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your present busines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questions on your present activities and propo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the organisation’s strengths, weaknesses,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9754-1F98-4A2A-ABE7-991C3F8B09C0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1404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s Require You To …… (cont’d…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0920" y="3201840"/>
            <a:ext cx="5042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ally set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ealistic financi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actual performance against the planned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172F-31D5-4FA7-9576-2D53999E133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ed Planning Requi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90160" y="1981080"/>
            <a:ext cx="676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ublic companies engage in very detailed planning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st public companies find the necessity to prepare business plans essential for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t only adds to the degree of urgency that small business operato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 to developing their own busine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2E9C-65ED-4EEB-83E5-8F38D69611A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/Medium Sized Businesses Need A Business Plan To Surv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2720" y="19810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/medium sized business operators need their business plans to help their survival more than public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ortunately very few businesses, other than public companies, prepare adequate busine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mewhere between 50 and 75% of small businesses fail within three to five years of their comme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2EF-FA4D-457C-A9EB-612F03A57B3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lights the futility of business people claiming that business plans do not help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mall business operators are put off by the notion of preparing a business plan because they believe most of their friends in small business get away without preparing busine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/Medium Sized Businesses Need A Business Plan To Surviv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FC3-E411-40D5-962C-A8B6AEEA315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fortunately, many of their colleagues may fall victim to the small business failur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ndency of many small business proprietors not wishing to plan ahead, leads to their business’ f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/Medium Sized Businesses Need A Business Plan To Survive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9246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E2C-BF93-433A-B5B4-BE17964F7FF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s Assist In Running A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3440" y="212256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ractical thing to sit down and plan your future busines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will benefit because you have thought about the problems of the future and tried to think about solutions to the potenti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long term you will have less worry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2:55:07Z</dcterms:created>
  <dc:creator>Peter Towers</dc:creator>
  <dc:description/>
  <dc:language>en-US</dc:language>
  <cp:lastModifiedBy>Jenny</cp:lastModifiedBy>
  <dcterms:modified xsi:type="dcterms:W3CDTF">2015-09-07T04:32:54Z</dcterms:modified>
  <cp:revision>19</cp:revision>
  <dc:subject/>
  <dc:title>Planning To Succeed</dc:title>
</cp:coreProperties>
</file>