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FB7-4BD0-475B-840A-9F128EB8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225-826E-44A1-A4C4-2AF88194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3E8-27ED-46BC-AF95-6457A172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9DA-64D2-46A9-9268-24B6D46B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D682-C6BF-4312-A40B-5B7F96A6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4EA5-3F5D-4763-860C-2ABFB775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9D14-D97F-4143-B962-7AB9AFF9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71D9-B4B4-467B-9043-88F95EAE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AC9C-6E81-406D-BBC1-28FCF8A9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55A8-2469-41F3-81A7-DFE0DC0A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C2F2-CD27-46BC-8061-9856AEC1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69A-4DB9-4976-9480-4C2D4302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1614-3AB7-4602-BDB4-AE15CB9C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013C-8C35-4041-AD81-1B93EE3C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D69D-DA78-45AC-8558-3EF89D2F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2E37-9106-45CE-86A0-0A95DD23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9088-B1B2-4864-A169-CD98CA21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CC6A-86BA-4AD7-A21D-510343CD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6B16-7053-4388-8C4E-1FE19067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F779-1E33-4ADB-8744-AA6374CF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DF5B-160C-4995-987D-6BFCF97B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DB3E-3B9B-4D9E-B880-43F6C58C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C65-BE2A-4AC9-92EF-1D6168DF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9C41-006C-4709-A758-1248CA7C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6DA9F-548C-49BF-A5E0-39A73E1A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3DBF-C170-41C7-9197-D4C0290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FD8A-7BDD-4B4D-BA88-AB6765A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60F8-E995-47C8-9DC6-7A3B6BCF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69B77-5EA1-4D4A-B3B9-4B7E0B7C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BF97-DCFE-4C98-B774-909E992C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66CA-F709-461E-81C2-FA539FD8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3A9AA-4949-4B2B-ADD0-FEC8CD20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76B9-6661-48EC-A440-34877079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479-7BA7-4333-8090-EBC966F7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0531A-FEC7-4849-B2A3-1890BA4E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40242-080D-4FDB-B0BF-E5DCD04B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4E1E8-280F-4CBD-BDF5-59CDFF1C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B322-C041-41FB-BD47-9A707ADB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4814-90D2-45A9-9CFD-211DC6C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FACD-A196-4067-B762-229D519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88E39-98A9-472C-8335-129B7523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00B14-D7F1-4623-8C85-A8C8985B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871B-431E-4486-9199-BCA8E3E4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1322B-6C04-44DA-8B05-C5303A1F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239-2406-4987-B8E0-E4E04F7A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0949B-5632-4ABC-9881-74899A25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A8416-2131-475D-9609-6D0BBAD5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53E9-24A0-41D1-939F-0280D5A4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CD01F-B613-4339-B981-7B4BD747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5696A-82CB-4B58-ABCE-47C01BF6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D876-151E-4FC0-860A-0DC7832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7B397-E517-46DA-96D0-2A67E09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55EC-BC29-4D48-A86D-01F0115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956E1-3551-420D-89A8-54D80089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6FF19-8E52-4FC3-8232-3B9920CA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2AA-71DB-4BB1-9F87-2B7D507E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2593-316C-4130-B57C-05B03878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7E95B-25E8-4364-AB83-D9F682A2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059E3-644B-4263-8A9E-1CA6594F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4EF81-48DF-4F0A-ABDB-0B534A7A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3DC1E-6356-45CF-AD65-7C411C5F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B3155-755F-43D4-8C3E-41F01D26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25863-D93E-4FDB-B636-08CC269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04F08-8E8F-470E-A2A1-3FE675C6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A8260-B376-4CC9-A964-52632C1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BF4A6-9B0B-4091-9CC2-C774484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7B2-6AAF-4B5B-9FDF-D03E6A82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2E67D-0BB3-4234-A117-C92B089E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0B111-E8CF-4071-98CF-3A269585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16A40-F40A-4F56-93AA-089C133C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2EFD1-9E19-4848-95FF-3851F377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80172-6EF8-40CA-B010-8CDDCF80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74790-0560-46E1-9392-C4469008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9B372-E2EB-46FE-99D6-CC9E21CC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13F67-7E36-4DC6-AFF4-0AFF9154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77B19-8DD9-486C-BDB4-03753D21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7B658-D744-4241-8FCE-8798D609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8E2-5867-4312-BBF8-006BD18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F5E0F-E11F-4A76-9D89-CF2648C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6654-10E1-408B-8FF3-346B01E0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4F259-9F65-4C83-A098-012A047D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E04BC-E557-46DE-ACE9-51DAE685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4B87C-AF9B-4B33-9AF7-9DDB2749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8C313-737F-40BA-86E0-2441FE59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733BC-D288-4E09-BACC-85C4FDDF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611D8-DFDE-4231-9627-5C6D0114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1401D-6223-4554-B78B-740B87D9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4C7E3-607D-4084-BE54-891E3ECE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F55-4E1F-4AF4-A9E0-B019261D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388CF-0893-4FCF-BA92-3EA71094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DB2FC-A776-4263-9FCC-7F2FD719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951F0-B067-4931-AF7B-A3DAF8E5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EA6C7-1DC7-4534-A3EB-B6BE82FE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4AF0E-970E-4A17-804C-F9183F4C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A0BE4-F092-497A-B750-77EF34AC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56F74-4543-445C-9048-25EEF204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/16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71E8-9A98-432D-A770-227BD595F8BB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7/16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cec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cece7"/>
                </a:solidFill>
                <a:latin typeface="Times New Roman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E135-7C09-496A-8357-F2CF18858732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/16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DC1C-81CF-46CC-AB5C-18B82DC63363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/16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FD62-B318-462C-ACE9-D068DE4E5AEE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/16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6880-E789-4DB3-A2F5-B8FB0B7DE016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/16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B95F-66CF-4E72-9F9D-FCC51D86DD42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/16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BF35-5EA7-4B9D-A02D-CD5DCAD138B4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7/16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2A37-05DA-4FFE-9438-7E5472739B73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Users\Belle\Pictures\btnewlogo.png"/>
          <p:cNvPicPr/>
          <p:nvPr/>
        </p:nvPicPr>
        <p:blipFill>
          <a:blip r:embed="rId1"/>
          <a:stretch/>
        </p:blipFill>
        <p:spPr>
          <a:xfrm>
            <a:off x="4605480" y="333360"/>
            <a:ext cx="3998880" cy="11509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3"/>
          <p:cNvSpPr/>
          <p:nvPr/>
        </p:nvSpPr>
        <p:spPr>
          <a:xfrm>
            <a:off x="250920" y="198432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de5a00"/>
                </a:solidFill>
                <a:latin typeface="Arial Black"/>
              </a:rPr>
              <a:t>Build Value wi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de5a00"/>
                </a:solidFill>
                <a:latin typeface="Arial Black"/>
              </a:rPr>
              <a:t>Virtual Chief Financial Officer Service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250920" y="54687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esented by Peter T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naging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SS BIZTOOLS | ESS BIZ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971640" y="1915920"/>
            <a:ext cx="7200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Accountants are all trained the same way!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We have invested a lot of time and money over the last 4 months in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4612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Lucida Sans Unicode"/>
              </a:rPr>
              <a:t>Surveys of our tea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4612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Lucida Sans Unicode"/>
              </a:rPr>
              <a:t>Getting feedback from some of our clients on the services that they wa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4612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Lucida Sans Unicode"/>
              </a:rPr>
              <a:t>Training our tea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4612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Lucida Sans Unicode"/>
              </a:rPr>
              <a:t>Accessing tools to assist in the delivery of Business Advisory Services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419C-751C-4F9B-A8AA-1711A8A1A953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49120" y="360360"/>
            <a:ext cx="86457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01840" y="2922120"/>
            <a:ext cx="6410160" cy="19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We are confident that we can deliver an outstanding Business Advisory Service for our clients to assist in </a:t>
            </a:r>
            <a:r>
              <a:rPr b="0" i="1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Building Value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FFBA-66FF-49C4-A7B8-A9CD3748548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49120" y="500040"/>
            <a:ext cx="86457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755640" y="1988640"/>
            <a:ext cx="76341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Utilise technology to supply an “on call” serv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Supply a service modelled on a public company CF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Respond to CEO questions – 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“could we do this differently”?</a:t>
            </a: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“what would it cost to do this?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Prepare monthly </a:t>
            </a:r>
            <a:r>
              <a:rPr b="0" lang="en-AU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management</a:t>
            </a: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 accou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06D-D9B6-430B-949E-B29DDBFC82DC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249120" y="426960"/>
            <a:ext cx="869328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71640" y="2278080"/>
            <a:ext cx="720072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Prepare Key Performance Indicat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Prepare a “commentary” to explain the financial performan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Identify specific item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4612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Research and Development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roject Cos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4612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Export Market Development Grant Progressive Cos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4612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868D-2FC2-413A-AB84-BB49BC787307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Title 3" descr=""/>
          <p:cNvPicPr/>
          <p:nvPr/>
        </p:nvPicPr>
        <p:blipFill>
          <a:blip r:embed="rId1"/>
          <a:stretch/>
        </p:blipFill>
        <p:spPr>
          <a:xfrm>
            <a:off x="609480" y="360360"/>
            <a:ext cx="79916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1187280" y="2205000"/>
            <a:ext cx="68421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Budgets and Cashflow Forecas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Comparison to Budgets (monthly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Benchmarking against other business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Board repor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Business Valuations (annually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Review of Buy/Sell Agree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461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0B1A-93A6-4C37-894C-755EF823256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774720" y="426960"/>
            <a:ext cx="769284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619280" y="2349360"/>
            <a:ext cx="5904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Calculate “valuation gap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Identify strategies to bridge the “valuation gap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Proactive identification of grants to assist the busin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Corporate governance adv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2E3B-E716-40D3-961F-158A82EAF05E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Title 3" descr=""/>
          <p:cNvPicPr/>
          <p:nvPr/>
        </p:nvPicPr>
        <p:blipFill>
          <a:blip r:embed="rId1"/>
          <a:stretch/>
        </p:blipFill>
        <p:spPr>
          <a:xfrm>
            <a:off x="609480" y="360360"/>
            <a:ext cx="79916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1547640" y="1844640"/>
            <a:ext cx="6120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Risk Management Strateg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Debtors’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Personal Property Securities Register Syste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Preferential Payment Claim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Where are your client’s assets locat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Strict Lodgement Tim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E87E-8202-4128-857F-9422C895163D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Title 3" descr=""/>
          <p:cNvPicPr/>
          <p:nvPr/>
        </p:nvPicPr>
        <p:blipFill>
          <a:blip r:embed="rId1"/>
          <a:stretch/>
        </p:blipFill>
        <p:spPr>
          <a:xfrm>
            <a:off x="774720" y="274680"/>
            <a:ext cx="76993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476360" y="2276640"/>
            <a:ext cx="59752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Lucida Sans Unicode"/>
              </a:rPr>
              <a:t>If needed – assist the business in getting investment read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Lucida Sans Unicode"/>
              </a:rPr>
              <a:t>Ongoing “proactive” advice – not waiting to be aske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3AFF-CE87-4D9D-94B6-35C634BFFE9D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Title 3" descr=""/>
          <p:cNvPicPr/>
          <p:nvPr/>
        </p:nvPicPr>
        <p:blipFill>
          <a:blip r:embed="rId1"/>
          <a:stretch/>
        </p:blipFill>
        <p:spPr>
          <a:xfrm>
            <a:off x="774720" y="274680"/>
            <a:ext cx="76993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186920" y="1844280"/>
            <a:ext cx="6697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Lucida Sans Unicode"/>
              </a:rPr>
              <a:t>There are a lot of challenges occurring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Digital Disrup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Standard Business Repor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Tax Returns becoming a commod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Outsourcing – “free up time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Ignoring these challenges is not an option!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4853-C1C6-46BC-B7EA-CB74185045A2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249120" y="560520"/>
            <a:ext cx="864576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186920" y="1844280"/>
            <a:ext cx="6697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ESS BIZTOO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Comprehensive range of tools to    assist delivery of Chief Financial Officer Servic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ESS BIZGRA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Proactively find grants for your cli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45072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4118-2717-4104-A5A8-45C3C78AA941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249120" y="560520"/>
            <a:ext cx="864576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47280" y="1197000"/>
            <a:ext cx="640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 indent="-40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Lucida Sans Unicode"/>
              </a:rPr>
              <a:t>SITUATION AVAILABLE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 indent="-40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 indent="-402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 indent="-402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Opportunities for accountants who are prepared to be the Virtual Chief Financial Officer for SM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Footer Placeholder 1"/>
          <p:cNvSpPr/>
          <p:nvPr/>
        </p:nvSpPr>
        <p:spPr>
          <a:xfrm>
            <a:off x="4788000" y="6377040"/>
            <a:ext cx="33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CD96-32BC-4836-B1D8-D8F30B929A2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042920" y="2349360"/>
            <a:ext cx="705816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cc6600"/>
                </a:solidFill>
                <a:latin typeface="Lucida Sans Unicode"/>
              </a:rPr>
              <a:t>“</a:t>
            </a:r>
            <a:r>
              <a:rPr b="1" i="1" lang="en-AU" sz="2800" spc="-1" strike="noStrike">
                <a:solidFill>
                  <a:srgbClr val="cc6600"/>
                </a:solidFill>
                <a:latin typeface="Lucida Sans Unicode"/>
              </a:rPr>
              <a:t>If accountants are not really careful the profession could really suffer!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71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71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cc6600"/>
                </a:solidFill>
                <a:latin typeface="Lucida Sans Unicode"/>
              </a:rPr>
              <a:t>“</a:t>
            </a:r>
            <a:r>
              <a:rPr b="1" i="1" lang="en-AU" sz="2800" spc="-1" strike="noStrike">
                <a:solidFill>
                  <a:srgbClr val="cc6600"/>
                </a:solidFill>
                <a:latin typeface="Lucida Sans Unicode"/>
              </a:rPr>
              <a:t>DON’T‘ LET THIS HAPPEN ON OUR WATCH!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71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Jason Bender – Deloit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71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ATSA 2014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60B5-1C3C-4576-B794-4C41BB520875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1042920" y="426960"/>
            <a:ext cx="708984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116000" y="620280"/>
            <a:ext cx="6913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3644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07f09"/>
                </a:solidFill>
                <a:latin typeface="Lucida Sans Unicode"/>
              </a:rPr>
              <a:t>ESS BIZTOO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3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07f09"/>
                </a:solidFill>
                <a:latin typeface="Lucida Sans Unicode"/>
              </a:rPr>
              <a:t>    </a:t>
            </a:r>
            <a:r>
              <a:rPr b="0" lang="en-AU" sz="2800" spc="-1" strike="noStrike">
                <a:solidFill>
                  <a:srgbClr val="f07f09"/>
                </a:solidFill>
                <a:latin typeface="Lucida Sans Unicode"/>
              </a:rPr>
              <a:t>www.essbiztools.com.au</a:t>
            </a: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3644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3644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ea5d8"/>
                </a:solidFill>
                <a:latin typeface="Lucida Sans Unicode"/>
              </a:rPr>
              <a:t>ESS BIZGRA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3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ea5d8"/>
                </a:solidFill>
                <a:latin typeface="Lucida Sans Unicode"/>
              </a:rPr>
              <a:t>    </a:t>
            </a:r>
            <a:r>
              <a:rPr b="0" lang="en-AU" sz="2800" spc="-1" strike="noStrike">
                <a:solidFill>
                  <a:srgbClr val="4ea5d8"/>
                </a:solidFill>
                <a:latin typeface="Lucida Sans Unicode"/>
              </a:rPr>
              <a:t>www.essbizgrants.com.a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3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3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Telephone:  (07) 4724 111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3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Toll Free:  1800 232 08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3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Email:  peter@essbiztools.com.a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Footer Placeholder 3"/>
          <p:cNvSpPr/>
          <p:nvPr/>
        </p:nvSpPr>
        <p:spPr>
          <a:xfrm>
            <a:off x="4379760" y="6408720"/>
            <a:ext cx="379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A588-FCE3-4B63-9E96-4E088C705F36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474560" y="1557360"/>
            <a:ext cx="626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A wide range of services, rather than just taxation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Future Plann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Budgets and Cashflow Forecas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Business Analysis and Interpre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Succession/Exit Plann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Management of Cos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Management Monitor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Business Pla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Assistance in Raising Capi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Grants available for SM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*from survey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4379760" y="6408720"/>
            <a:ext cx="379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9460-F49E-4EF5-91A7-C92B517895BD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249120" y="476280"/>
            <a:ext cx="864576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187280" y="1771200"/>
            <a:ext cx="6769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Debtors’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Cashflow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Personal Property Securities Register Due Dilige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Corporate Governa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Chief Financial Officer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Cost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Research and Development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Business Valu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Strategic Business Consul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ooter Placeholder 1"/>
          <p:cNvSpPr/>
          <p:nvPr/>
        </p:nvSpPr>
        <p:spPr>
          <a:xfrm>
            <a:off x="4788000" y="6377040"/>
            <a:ext cx="33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8E83-FB11-489C-944A-10C63734CB2E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itle 6" descr=""/>
          <p:cNvPicPr/>
          <p:nvPr/>
        </p:nvPicPr>
        <p:blipFill>
          <a:blip r:embed="rId1"/>
          <a:stretch/>
        </p:blipFill>
        <p:spPr>
          <a:xfrm>
            <a:off x="249120" y="353880"/>
            <a:ext cx="8645760" cy="14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042920" y="2206440"/>
            <a:ext cx="70581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Input from partners – what type of work do they want to d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Survey the team – who is interested in “Business Advisory Services”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Ask your clients – what services would they like to receiv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Train the tea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Footer Placeholder 1"/>
          <p:cNvSpPr/>
          <p:nvPr/>
        </p:nvSpPr>
        <p:spPr>
          <a:xfrm>
            <a:off x="4788000" y="6377040"/>
            <a:ext cx="33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323A-6AEC-412F-A7F8-A43334B1B166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Title 6" descr=""/>
          <p:cNvPicPr/>
          <p:nvPr/>
        </p:nvPicPr>
        <p:blipFill>
          <a:blip r:embed="rId1"/>
          <a:stretch/>
        </p:blipFill>
        <p:spPr>
          <a:xfrm>
            <a:off x="249120" y="560520"/>
            <a:ext cx="864576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900000" y="1701720"/>
            <a:ext cx="7344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Participate in a Professional Sales Training course to develop the team’s selling ability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Plan a series of small seminars to launch Business Advisory Servic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Invite selected clients to one-on-one meeting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Utilise SME Needs’ Analysis to identify services that your clients wa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Footer Placeholder 1"/>
          <p:cNvSpPr/>
          <p:nvPr/>
        </p:nvSpPr>
        <p:spPr>
          <a:xfrm>
            <a:off x="4788000" y="6377040"/>
            <a:ext cx="33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538F-9C20-4603-8031-913E606C2DE8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Title 6" descr=""/>
          <p:cNvPicPr/>
          <p:nvPr/>
        </p:nvPicPr>
        <p:blipFill>
          <a:blip r:embed="rId1"/>
          <a:stretch/>
        </p:blipFill>
        <p:spPr>
          <a:xfrm>
            <a:off x="249120" y="560520"/>
            <a:ext cx="864576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187280" y="2277720"/>
            <a:ext cx="6769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Identify “Product Champions” and “Industry Champions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Review services that you will off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Formulate a Marketing Strategy – you have to tell your clients about the new range of services – don’t assume they kno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Footer Placeholder 1"/>
          <p:cNvSpPr/>
          <p:nvPr/>
        </p:nvSpPr>
        <p:spPr>
          <a:xfrm>
            <a:off x="4788000" y="6377040"/>
            <a:ext cx="33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4CE0-C9A0-4A19-A2D4-D22D76030F9B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Title 6" descr=""/>
          <p:cNvPicPr/>
          <p:nvPr/>
        </p:nvPicPr>
        <p:blipFill>
          <a:blip r:embed="rId1"/>
          <a:stretch/>
        </p:blipFill>
        <p:spPr>
          <a:xfrm>
            <a:off x="249120" y="560520"/>
            <a:ext cx="864576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116000" y="2062080"/>
            <a:ext cx="71280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Appoint a facilitator – partner, manager or consulta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Weekly training meetings – 2 hou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Identify any extra training necessary for individu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Facilitators Role – train the tea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Preparation period – 3 month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B030-4050-431A-AC7D-22A219CF6985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49120" y="334800"/>
            <a:ext cx="8645760" cy="9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044360" y="1844640"/>
            <a:ext cx="7127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Sans Unicode"/>
              </a:rPr>
              <a:t>Respond in a positive manner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Sure we have traditionally specialised in tax – but we have evaluated the SME surveys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We know the market wants more!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At university we studied a wide range of subjects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AU" sz="2800" spc="-1" strike="noStrike">
                <a:solidFill>
                  <a:srgbClr val="000000"/>
                </a:solidFill>
                <a:latin typeface="Lucida Sans Unicode"/>
              </a:rPr>
              <a:t>From our PY or CPA we studied many business issues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Footer Placeholder 3"/>
          <p:cNvSpPr/>
          <p:nvPr/>
        </p:nvSpPr>
        <p:spPr>
          <a:xfrm>
            <a:off x="4379760" y="6408720"/>
            <a:ext cx="38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SS BIZTOOLS – ATSA 2015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0AB-6426-4388-809A-1C01D3142B9D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6457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31:20Z</dcterms:created>
  <dc:creator>Peter Towers</dc:creator>
  <dc:description>Team Training for Business Advisory Services</dc:description>
  <dc:language>en-US</dc:language>
  <cp:lastModifiedBy>ESS BIZTOOLS</cp:lastModifiedBy>
  <cp:lastPrinted>2015-10-09T03:08:21Z</cp:lastPrinted>
  <dcterms:modified xsi:type="dcterms:W3CDTF">2015-10-09T03:08:37Z</dcterms:modified>
  <cp:revision>1069</cp:revision>
  <dc:subject/>
  <dc:title>Team Training for Business Advisory Services</dc:title>
</cp:coreProperties>
</file>